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AE56-2899-4796-8A35-3C4B6D9B89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80BF-EEAC-4CFE-9FDD-604E4E93D7E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4AF0-E8A4-43EF-9012-EB6D7AE0ED8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F20-F0C8-444D-89AA-A94DCDAF4A2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9A0E-8FA0-4727-B667-57ADC97CA96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6A62-CCA9-4EE6-BC6A-9B08EE78D48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4121-9AA4-49AE-B499-8AD640D25F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55CF-84D1-4396-8764-E1CC4C024E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6D47-6F2B-4D5D-AE41-3F1CD57FB9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1365-D9C3-4D8A-A59B-9014751E93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5523-5D09-4B62-AFBC-07A319561B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5F8D-7A53-454A-A822-6733763727A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889A-3E3D-41E5-B97D-BADE53A38E4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6D47E0-1283-4301-AF59-0E74DE3E3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1EE25-24DD-4179-8DA7-369548BE95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17501-9DC7-4B91-A925-93962D8448A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E0F07B-95FD-452E-A95A-3BACCA6D269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5485E8-3A65-450D-AB98-6FE4DD37B53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8E02DE-496B-4569-BCBD-4083EADB200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072B7C-7BD7-4B55-8292-A9959678084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4F7D20-2048-43E1-AF3B-4E6D386DD0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9DF52-4EE0-4B52-B186-9B281A0BD28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33990-5832-4566-9091-E37D7228EE9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AB64A-6D2F-47E4-BFDB-23D1767C4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CF8C40-0EE6-41C0-8044-5D6AF40A7B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7733A-17FB-436E-97E1-363EAC315B3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468A4-8CF5-4FF4-80A7-B892E488EC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8E59F-A946-4A38-9E61-588960985E9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92BCD-314D-457A-91E2-09F0D35C4C8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E7DE2-01FB-4030-BF34-205A6CCE4B1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9CBE4-D340-4317-B4D1-6CD82AE05B6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9CB45-C31E-4D1D-9218-583907EBD9D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EF6A1-132D-4AF7-B317-3C2A7E08ABE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5FFD7-47CE-4836-AE24-09398071C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8192-B294-4A93-808D-7C7459A24B1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9A3B8-C781-41E1-8D72-94328A394A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05F14-1220-439F-A141-00005513E4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34CDB-61CB-4B5B-9FD6-5D3E9422943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BFBA-87AA-4F35-BC2A-5DFFFD25B82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C413-D831-4BD3-8DBB-542A824823E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10A9-6EE9-40A2-8E02-0D9AAA71F80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DF2ED-8493-4E85-9A7F-29C821C13A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BA56-B859-423F-8064-6106E244D0D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6262-A38C-49DE-A545-FAF1738FBE9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00771-E2DE-43E1-BCC0-314A569F77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8D8E-59A0-4978-9E19-94999B449E9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C840-B670-41DC-A0DD-00918585D01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2C5A-2959-4E58-AEA8-6A5F6BB8951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6C3F-5CE1-4B53-BB47-3D276F09575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8C7E-2E9A-4702-8A6A-2BBA6EF6C77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3557-7A28-4A0F-BB5F-5EA27116521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CD95D1-E0AF-40F3-9915-F4494A1D766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5735E-4A35-4FE2-9C48-A27D1382FE0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9FFFA-CA6F-4740-963E-C426677A830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3EE99-C53A-4575-A2CB-6CBB00A32F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252D5-7430-42B4-BBA5-2F84842917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DB13-0870-48D5-A958-EAD20BFB231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7501C-6043-4614-B352-D61EEF01842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2E5EB9-F1DC-45C7-99A2-5DAEC774771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69B00-1E8B-4241-AB2D-4E8F5B5562E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659D0-04B8-464C-87D8-52B33165EB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EFF88-FE8B-41FB-8B8E-6CD66952727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901FA-277B-4982-8F16-20F03388661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E95D2-AAEE-4466-910B-DACC968ED68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CE140-86E8-4723-8A3A-BB0048C7946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572BC-F376-4595-B522-B4B96CCB990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EF63C-98F6-49B7-9FBD-9AB1456A21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F084-E599-4C54-8FB3-360C3BBEC9C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C75DA-4BC4-4357-B03F-2A9E99444C7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A0C70-9E2B-409C-B313-EF5BE77E987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ED45E-EAB3-4297-BBD2-08380BEEE67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6ED5D-21CF-4C25-8CA9-661FB0ED82A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CDA95-708C-4B11-BEA6-5B264DE3E99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37E2D-97C9-4949-B332-94E648F5633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0A8F0-5FD2-43DF-ACF4-7C5CD234849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F2FC7-665A-46A4-AB80-18E134C557E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EF243-2517-4379-A216-75B04E430C3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D0B54-E697-4267-912F-FB80ED1E97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FD42-0359-41E5-A5BB-42F6EE4D681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7AD4-4F85-4C37-8B26-F603F95970B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ACF8-3CDF-4BA2-AC09-00D01D01D4C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EBC3F-BDBA-4DC9-A325-6AAB58B4736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DD9B-F3ED-4E61-BF8C-C8EE3104483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E78D-D7E1-48C7-8DD7-B8E86FB9A2D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E460-D9BF-41B9-9B3D-BD36D271994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016E-10A4-4DE8-AD94-40212341B8C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BE4A-E144-4A3A-AD58-3A3A9D72ABB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849F6-D175-4777-A95E-17FC816D911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D5E6-1722-45D1-A2EC-8CA4BF3C2B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1410-D017-4CB4-B08F-52C25046517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7619-2277-42BE-943B-3FCCDC61922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1E9DF6-8EB6-4CB9-9D4F-D53EE5465C6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1669A8-B344-46BF-AD9B-954552E2FFD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108103-C649-4B4A-BB39-FF7D3F5046D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DFB6BC-4AF5-4F99-AB84-E11AF6BDC71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28932-8503-4117-B485-412556C9001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6AA1F-DD68-456B-91E6-8B0FDBA9B08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FFB6A-493F-4741-8CC0-617A9490AFC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F99233-9428-4A24-ACDF-5C3307D100A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64195-F431-4206-A685-49DA964124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B445-5245-4531-9981-9E2A91228CC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2C11B-ABA8-4FDC-A74A-F7AEA60C7D3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116590-7A7B-4229-9BFD-EAA37CAE9F1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93CB45-2D86-4E3E-9E17-9A2CF0FDA14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5B0E5-7516-4FDD-A314-A332A1F4D74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653B6-DFC7-4C91-8395-2693977D963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153F9-072C-403E-9181-8E1391A8885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54F18-F3B8-4D5C-91AC-C232C0FB07A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1459C-E2D2-4EEE-8B79-1E3282BC124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B9B7A-FD58-40AC-A443-590AFBE810C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5B28C-C3F0-47E0-98A0-ACAD431826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6FE8-DF4E-4442-8561-9D3465E28D0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15E26-CC4F-4F9D-A2B2-DA313C9AE12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28458-113C-447F-98AA-E04FA75728B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51FF4-2F56-42BE-94AC-29E770C92FA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C9155-F88A-43F6-8F5A-E222887B09F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BAEF0-B935-4B31-AABC-1878E25E521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E773E-E3A8-4136-86F9-FDC215510A6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217F-8BE3-48C6-BA9F-7DC365E79A5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1AB63-E65F-49B9-89F1-77862C3E973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25F4B-0C71-4832-8255-7361C21F5C5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88487-03E5-400F-B9EA-477DCF4B84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233A-274E-4CE8-BBC5-C738F61A9BA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63E4-5052-4741-A2D8-A2C7201985D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9EB78-1B4E-4BCD-94B1-9FDCEF5473E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E5CAB-F4E9-493B-98C8-32444BA68BD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13DB0-CCDF-4E05-9F33-5F965B9E13C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C081-23E5-4545-A54F-C64DFAECE1F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F7A3A-D3B3-4CEC-88F6-C743C1E5378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6A7D-F126-43F0-92CB-FC51AE74E62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79B1F5-59BA-4A96-BBC3-E3145872564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80D7EB-7639-451A-9838-99C4992CBE7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A2813D-D058-4ECF-9184-5BFC93D3FB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F620-5321-4F22-9AC0-A5D3926953F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1E0792-E93E-4882-A8D0-59E66F23606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F884EC-616D-4A62-A381-2F0C9C31836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907014-DA9E-43B5-8205-581D87EEA06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944548-7F4F-4F25-830E-EB68E5BC12E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8C5C3-0723-4C9C-A07F-3298A2588DD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B2BA69-03FE-4819-910A-A990C8EA3E2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B84AEC-7C1E-4562-AA75-62FE44C707E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FE9709-AE8D-4BC1-8C27-E70FFDB1E13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58DB4E-EF55-4D59-8547-3AA09C4DA6B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50EE4-E2A1-48DB-92FF-529759DA21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DD11-D87D-4A42-B7CD-EF069DB24D0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8044E-4B38-4234-8097-E9582E2C0BD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F3465-ACE9-41D2-8AE2-F50F62C94EF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9CA78-9EF9-4A00-BA9D-637F20E44D6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3DC40-2527-4DD0-B901-55F4FDE5940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C139F-B496-4FDE-AAFB-DA6130A1872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130C6-C83A-463C-B8E0-A22715D607B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B4469-7BC8-45DB-80AB-6E7E4364B67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287E2-9BCE-4E3B-87BE-2908F2488F1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A4E82-B859-4F0C-ACBB-EDDEB34C4C6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729A7-E2AE-4D42-AB28-67E5D735A7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095F-B742-48FF-A42E-170BD263DB7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67A37-5509-4B5F-8304-D1516689359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435F9-ACA8-46FA-8D13-FF010BD0059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F852-30D8-4832-BDC5-B9CB27F665B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6318-3107-4F17-A6D0-04BF5C98E70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10398-787D-4699-966B-7085745CF28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E803E-A049-4CFC-9F14-32361D9141A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48E26-01FD-4E21-B0D5-92382B9841F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2B781-0905-4A97-83D1-032AF520C6C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08D14-5976-42E7-9A0D-2B8644C6A48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A6035-926D-40D0-9DF9-841A58C8F1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2A41-9363-4FCF-A19B-C120B7030F4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7735A-3366-4191-A590-E52058ADFCB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BD24F-6867-4860-9723-895D0BBA0A6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62333B-EA41-4010-A6F2-73B17E27633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CB4630-677A-41A8-BAC2-34C4712E718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74E91B-C3CF-4ED0-8AE9-2C0E016666B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E9DD60-4809-444C-85F5-540DD304938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AA8B4D-0CCC-474C-A6D6-9C2FAC10687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69B6B0-FA42-4694-90F0-CCC2D393EA6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F7935C-BC7B-4FCD-BC7D-993984316B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96AA25-61A3-4278-9027-5CC4CEAC1FD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2BF62-9637-4FA6-983F-370577ED04C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71D5FD-5DC2-4852-A59B-25D8CA96FEB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4AC78F-3E19-474B-91AA-29402095CFE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15495C-A2BC-4DF4-B981-9DECC21A326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349B3-5262-4AE5-B8D9-885DB510F34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CEDA1-F15D-4539-B369-5822B382867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03DF4-F488-4A17-8A82-922EDD46EF1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22BF9-D6FC-4E1A-A6FC-E05C4491A54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78A7B-12AD-461D-AD3C-1DFCE4B6F0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6A5C0-22FD-40B5-A77D-C5D791F84C2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21ACB-D6CE-4312-83D0-5B57988A2E2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634F8-B880-4C0B-A4DB-410EF2B2550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F9271-041E-4407-A69D-11610D43A1E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66402-BF49-45DA-BB4C-AEA94F351C4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C946A-E6A1-46B1-B591-C850440B904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94E15-A1EF-4B3E-B65A-5AD6794E547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E784E-FB5D-428C-9F3D-D21AFA485B9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C30FE-5EFD-4813-BC94-B327D877E48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47900-EE02-497D-B13F-4BC78CA5DD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17B56-3103-4580-A0E6-3FFC926EDAD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4B3C3-ACDA-4FBE-BC86-092E931069F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2370A-21C9-4C7E-A9FC-BA553C877AC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848AF-ED3B-4DF6-8E41-6DD7A175124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F23D8-B9F0-46AD-ADAA-9D19738F671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55106-7E2F-4816-A8EE-24421ADC423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B5E23-03DA-4CFC-BE2B-D5AB2FE3725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5883-70F3-41C3-ACD0-2C02A4ECCDF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333AE-8135-4A2C-BB69-028F8824372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EF8DF3-38C9-40BE-A313-EB2390EF1C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88791D-5FBB-4617-89F2-2748EAE53B5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6A17D3-4297-4544-BEF3-71B40E0C0A9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BFAC4-010B-4646-870B-C5106B9115B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DC24BF-64C6-4AD4-9F27-79549D68FEA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B52EF3-6CCE-4629-A843-D115FEED7F4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CC2728-0FBA-46E2-B1E9-A74A708DE13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806083-BC1E-4B06-80F3-95FD1BF6E09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53D4C3-774F-4CCB-A1D7-2A43B2D0AA0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E6DBFA-1A7D-482E-ABED-7D207F825E2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81AABF-96FC-4934-9767-FBB8DFAE8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CD102-9148-4C73-B707-083324FBC72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56E793-C80D-4582-A27C-06525D7D4D1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4EA0FB-CBA2-4A57-A0DB-E88EE7CBA22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CC5414-72C9-4DD2-8578-9021F73F4D5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40FEE-6061-4B63-A87A-4C18DADCF69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578D8-10EF-41E2-8C7A-B5F08889924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E5080-1400-4674-B004-6B8E05D1504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D8439-86C3-4D71-A15D-E2BAAB17913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3631D6-155B-48CA-A0CA-FE7C41548BA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FADC6-69AE-4BC2-8580-E9F562D8E8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71757E-C428-4F60-9E8C-6E1FA4629F3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2450B-3102-42F9-AA0E-6F6B80A302B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F47D02-967B-44B4-BC60-A18724EB236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96CBC-4292-4260-9D2C-ECE1C65BDAF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CF566-F9A0-47F3-8010-9A1DFCBA7E6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B15A5-36FE-44D2-8673-E7CEB3583A5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4060D-EB51-4D15-8B11-13E6D0266D9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4072A-A685-4A01-9472-6816C65005C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C9E15-D1E4-4B76-96E9-D1220EAE64A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1EFB9-270F-430D-ADE8-D4CFA5E826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14D84-C0B7-416F-A299-CB8F5B1C09F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8EE01-64B6-480C-BE34-477C9BF5BC0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54030-68A6-45EE-922B-4E0347028E1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3B058-BED3-4F9E-87A4-C13B0333C12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82E7-3EEA-42C5-AB17-F07989698CA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806E-F0AA-4C1F-BFED-05548FE753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A2C7-014E-4E53-996B-6E16F11365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09E7-C321-41A2-84DE-B3E194678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21BE-783D-4815-B29A-F0723AA22E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69AA-16C3-4DFA-9413-C95CD2B86A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F286-BF38-493E-B2B9-4559613DA4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56CD-59CD-4A7F-AD59-CB40A1E068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F192-39EF-47BD-901B-3FBA0856C1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4516-D275-499F-ADEF-F87FB24372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B50D-F46F-404B-8CD9-359553B7A8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C759-B17E-4838-BAE7-852A611AAA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D0E4-FFDB-4F4E-A20E-1275DA3BA46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E2D-A665-4D13-9ACA-09F7A3CBEDA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03C-7B13-413E-85C4-102485E672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7E4-8D2F-4B29-B898-DE7A4B69B7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868-206A-41F1-A7B3-B75CDF3133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72F-89C4-4341-9BC7-9EABEAF33F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8EB-D523-4142-9E0A-2EF64A7C5DC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726-08AB-4EC9-B6F4-B9A2954B2C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4E2-4A55-4D6A-AB03-4C26BD4C1D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03B-4F35-4C24-8546-E6313FEAB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349-E493-4EBD-8E77-36559BDB0E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5D7-3FEC-43B6-BA39-E23AD10D37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B54-1C82-4266-8B88-194EE5BCD0C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CCCA2-3687-4C23-9AED-1E8FD891CC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CF9EC-B61E-49FE-8380-232D40202D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09A7C-2B37-4B15-BAAE-A7710FD3631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DA7CD-FE26-4710-A412-0AFE03726D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9B4AB-FD0E-488D-9CF8-C44F219DD4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EC8C6-A23D-465D-B189-801DF421106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7CCBA-B773-4A24-ACE4-54C57ED16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833FB-C8E5-4BE6-B10F-AB3C74E130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AAC81-82CA-4FD1-AF24-B8C22603BD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392C8-2667-43B8-B995-047DBAAD71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EBABA-BC51-4FBE-B63D-C590A9A67BC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43355-0B5E-4695-988F-3389C8736C2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FD61C-8E19-46C8-B3D1-5D21034217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8CE24-666A-410F-9C67-09F6988EEC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EC967-A9D0-4EF4-BA05-3487AD28B39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795E1-83E1-4D9C-B51E-24897C61C84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6AD6B-A817-4794-ACAF-E49FB5299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97DA8-BEFE-4B72-B870-809BAC1BB19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41429-B474-4282-B956-531CE2755D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12B50-6692-4736-A3E3-1F6FF99008A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D5063-91EF-4677-BB66-DE312BBDC0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FF033-3FA4-465E-BAFD-54737E5B8C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92A7F-0E51-412B-8890-A637EAB5D02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C3D97-2BDE-4950-AD52-157911529BA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B8D0-E481-4805-8DCD-73ABC0D2A6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935-38FF-4895-A126-47B788E5FEB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A348-D945-4118-ACD8-E07FDD3A1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E2EF-37A4-4AFB-A34C-0B41752A3D6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DF74-A816-44EE-B86E-EB74E50B969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8480-8F29-40E4-8118-E199720E00C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4867-80CF-4A99-A51E-D12B5E31F25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3D2B-CA07-4E51-B44D-122E0FC54C9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5997-8BCB-4817-A6FB-3D8FA48A8D0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9178-D662-4D36-816D-FB669A0A83D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D06E-3D11-413F-B7D8-1B0F53D06ED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579F-E89B-4CFB-85E0-061E440B031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2BDC-3DD8-4448-9D52-0A1A21D4E48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5A02-C4F9-4008-9D6C-F47FB33C5C0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2951-176A-4030-A350-5AE0B22A405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6184-5E5A-4E9C-BF22-BD3433861E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E2B-CE64-411E-9D70-B513D1B7CD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121A-AB8E-4B77-8DE4-3F9A319BDCF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8316-F0A1-4F0D-BBB3-89AF4F412CE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D008-CE70-4B00-8D17-F060D97A2B8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E7EB-189A-4B21-AD11-C183269732D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1632-FE4A-41B5-A553-C86CF88C0BC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634C-BA69-4519-9ACB-4F293E801E0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0660-CE13-4E31-B671-DADEE0D3318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0AF1-C292-429E-902D-A7997E10400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A090-8C27-49D6-8E2B-5476C9A8518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1C91-050E-4CF0-A0E9-863539A2F17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87640"/>
            <a:ext cx="40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Valledup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225440" y="54936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101268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0" y="530388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671400" y="1541520"/>
            <a:ext cx="79995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2"/>
          <p:cNvSpPr/>
          <p:nvPr/>
        </p:nvSpPr>
        <p:spPr>
          <a:xfrm>
            <a:off x="685800" y="8175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728720" y="692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825480" y="551664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5 CuadroTexto"/>
          <p:cNvSpPr/>
          <p:nvPr/>
        </p:nvSpPr>
        <p:spPr>
          <a:xfrm>
            <a:off x="891360" y="532764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890640" y="1870200"/>
            <a:ext cx="77072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3"/>
          <p:cNvSpPr/>
          <p:nvPr/>
        </p:nvSpPr>
        <p:spPr>
          <a:xfrm>
            <a:off x="1295280" y="549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5 CuadroTexto"/>
          <p:cNvSpPr/>
          <p:nvPr/>
        </p:nvSpPr>
        <p:spPr>
          <a:xfrm>
            <a:off x="1338120" y="5102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1 Imagen" descr=""/>
          <p:cNvPicPr/>
          <p:nvPr/>
        </p:nvPicPr>
        <p:blipFill>
          <a:blip r:embed="rId1"/>
          <a:stretch/>
        </p:blipFill>
        <p:spPr>
          <a:xfrm>
            <a:off x="701640" y="1539720"/>
            <a:ext cx="7537320" cy="3627720"/>
          </a:xfrm>
          <a:prstGeom prst="rect">
            <a:avLst/>
          </a:prstGeom>
          <a:ln w="0">
            <a:noFill/>
          </a:ln>
        </p:spPr>
      </p:pic>
      <p:sp>
        <p:nvSpPr>
          <p:cNvPr id="1304" name="Text Box 6"/>
          <p:cNvSpPr/>
          <p:nvPr/>
        </p:nvSpPr>
        <p:spPr>
          <a:xfrm>
            <a:off x="1187280" y="5364000"/>
            <a:ext cx="770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763640" y="7682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5861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53360" y="499896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1 Imagen" descr=""/>
          <p:cNvPicPr/>
          <p:nvPr/>
        </p:nvPicPr>
        <p:blipFill>
          <a:blip r:embed="rId1"/>
          <a:stretch/>
        </p:blipFill>
        <p:spPr>
          <a:xfrm>
            <a:off x="905040" y="1542960"/>
            <a:ext cx="7546680" cy="3380040"/>
          </a:xfrm>
          <a:prstGeom prst="rect">
            <a:avLst/>
          </a:prstGeom>
          <a:ln w="0">
            <a:noFill/>
          </a:ln>
        </p:spPr>
      </p:pic>
      <p:sp>
        <p:nvSpPr>
          <p:cNvPr id="1310" name="Text Box 6"/>
          <p:cNvSpPr/>
          <p:nvPr/>
        </p:nvSpPr>
        <p:spPr>
          <a:xfrm>
            <a:off x="757080" y="5297400"/>
            <a:ext cx="81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858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620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1039680" y="5354640"/>
            <a:ext cx="76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1049040" y="5138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1139760" y="1698480"/>
            <a:ext cx="666432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5 CuadroTexto"/>
          <p:cNvSpPr/>
          <p:nvPr/>
        </p:nvSpPr>
        <p:spPr>
          <a:xfrm>
            <a:off x="2381040" y="54100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1998720" y="1903320"/>
            <a:ext cx="5524560" cy="3541680"/>
          </a:xfrm>
          <a:prstGeom prst="rect">
            <a:avLst/>
          </a:prstGeom>
          <a:ln w="0">
            <a:noFill/>
          </a:ln>
        </p:spPr>
      </p:pic>
      <p:sp>
        <p:nvSpPr>
          <p:cNvPr id="1322" name="1 Rectángulo"/>
          <p:cNvSpPr/>
          <p:nvPr/>
        </p:nvSpPr>
        <p:spPr>
          <a:xfrm>
            <a:off x="1187280" y="76500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</a:t>
            </a: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Valledu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2 Imagen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5976720" cy="1871640"/>
          </a:xfrm>
          <a:prstGeom prst="rect">
            <a:avLst/>
          </a:prstGeom>
          <a:ln w="0">
            <a:noFill/>
          </a:ln>
        </p:spPr>
      </p:pic>
      <p:pic>
        <p:nvPicPr>
          <p:cNvPr id="1326" name="1 Imagen" descr=""/>
          <p:cNvPicPr/>
          <p:nvPr/>
        </p:nvPicPr>
        <p:blipFill>
          <a:blip r:embed="rId2"/>
          <a:stretch/>
        </p:blipFill>
        <p:spPr>
          <a:xfrm>
            <a:off x="1514520" y="3862440"/>
            <a:ext cx="5629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es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557280" y="1782720"/>
            <a:ext cx="7831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73280" y="1989000"/>
            <a:ext cx="7759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989440" y="4805280"/>
            <a:ext cx="5903640" cy="20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1 CuadroTexto"/>
          <p:cNvSpPr/>
          <p:nvPr/>
        </p:nvSpPr>
        <p:spPr>
          <a:xfrm>
            <a:off x="3635280" y="6165720"/>
            <a:ext cx="540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del año anterio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2987640" y="230040"/>
            <a:ext cx="6162840" cy="5791320"/>
          </a:xfrm>
          <a:prstGeom prst="rect">
            <a:avLst/>
          </a:prstGeom>
          <a:ln w="0">
            <a:noFill/>
          </a:ln>
        </p:spPr>
      </p:pic>
      <p:sp>
        <p:nvSpPr>
          <p:cNvPr id="1270" name="1 Rectángulo"/>
          <p:cNvSpPr/>
          <p:nvPr/>
        </p:nvSpPr>
        <p:spPr>
          <a:xfrm>
            <a:off x="3672000" y="595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6 CuadroTexto"/>
          <p:cNvSpPr/>
          <p:nvPr/>
        </p:nvSpPr>
        <p:spPr>
          <a:xfrm>
            <a:off x="406440" y="4911840"/>
            <a:ext cx="22492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 Los resultados presentados para San Andrés corresponden al período mayo – octubre 20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3"/>
          <p:cNvSpPr/>
          <p:nvPr/>
        </p:nvSpPr>
        <p:spPr>
          <a:xfrm>
            <a:off x="1441440" y="257652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76360" y="620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2236680" y="552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547640" y="1797120"/>
            <a:ext cx="6361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180468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251000" y="1563840"/>
            <a:ext cx="68626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Valledup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490680" y="2421000"/>
            <a:ext cx="8304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iego Alejandro Martinez Jimenez</cp:lastModifiedBy>
  <cp:lastPrinted>2015-11-17T19:37:39Z</cp:lastPrinted>
  <dcterms:modified xsi:type="dcterms:W3CDTF">2015-12-10T22:04:37Z</dcterms:modified>
  <cp:revision>925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